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3.gif" ContentType="image/gif"/>
  <Override PartName="/ppt/media/image24.png" ContentType="image/png"/>
  <Override PartName="/ppt/media/image21.gif" ContentType="image/gif"/>
  <Override PartName="/ppt/media/image18.gif" ContentType="image/gif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23.gif" ContentType="image/gif"/>
  <Override PartName="/ppt/media/image4.jpeg" ContentType="image/jpeg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F88-0800-401C-949F-2A401522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09C-69A6-4684-BA6B-3D96618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42DEE-FCBD-4942-BE15-6911511A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BEA7A-1172-4B0C-97CF-1FBE6ED1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66861-3D57-4B29-86AE-B8E8A8E3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90C70-72CC-4775-A28C-6FF6731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752D4-BC75-4BC8-A7F5-1DDB5F51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6F390-666A-4831-AACD-45F8909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5DD5C-D3E8-4E34-8999-A48B68CF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9C4B9-041B-4175-9322-DE41CE1A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ABBC1-DE93-4FCF-9445-CF106E47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EDAFF-AF18-4999-A99F-987B7DBC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A34-2255-46F2-869C-A1D6A8AF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1F016-9F2F-4E48-AF7B-E371350F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3BAB4-4481-4E91-A5BE-6B89E4B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9D78A-FBBE-4C04-BE80-F824CDE2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F7EEA-A044-42D3-B9E2-C4E4C292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775B1-8127-4F93-B4BE-95D4196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6DD1E-B3A0-41D6-BBCB-3DF9466E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F145D-3D85-4DF3-8E27-D792E3C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145A8-ECB3-477B-8A92-84D21D7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E5819-1486-4E96-9C78-11D3474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C2AD9-32E1-4633-A75D-A4033F73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DAE-2915-4E06-941F-F3CC8057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8426D-5172-4821-804B-0C32331D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13BFA-A2D2-499F-B32C-D38A285B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C93B5-58B3-49B5-97A2-D63E5B56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F5035-4F00-418D-A18B-BA27C24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5A34C-0869-4B50-9DCB-D0EDD22E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284A6-A1E5-482C-9B4B-D3A0C954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E6968-F16A-4EAD-90D4-7BAB0A3D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B5986-2188-4CAD-8185-43096BF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385C9-9695-4EFB-89C5-96EADF0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2DA3B-87A4-4B8C-BE81-9C6E12C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7608-0428-4EF5-9549-890E4134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0101D-6B5F-4D83-B095-E615572F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D4339-88E7-4062-9D1F-0208CBF5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FAA5E-B003-4621-8590-847E5ABD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D6003-6CBC-4FBB-83E9-D4ED0C7F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5BFA4-F2B1-4193-87B9-B190C990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9BD0F-F062-4914-ADBB-2F1F30E2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0D1B7-8934-4CA9-BF50-4B6DF882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D838C-FB38-4BBD-BA36-7D984428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FB3D0-0E46-48A9-AFBF-CE9A1743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1F9E4-BF43-4B06-BE89-D1C3922E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B658-A805-46D8-97E3-69F2B974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BE20F-C971-4499-8B13-1FD7B7A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58579-8510-4B0C-A89F-9B48E90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8DB4C-7E1A-4115-B05D-322BBECD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77A4F-8A44-4653-9240-7CB25F77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691B4-B711-49CE-8C71-C64DBB30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85141-8FC1-4138-83AD-1BF8E953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1B368-80A9-414B-B1F4-BC96CD9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E9244-F644-4E08-8349-35569F70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652D5-35BB-4EAD-9FEC-D6A824A3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96952-5F26-43C8-BBF9-69A9F0A0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39FC-BF02-4839-88B6-D34CC54D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692D7-9640-4062-B369-E6F8D160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85B30-6793-4BC9-A5F2-0551682E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2A1A0-188B-4BE5-9CC9-0D415FB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CD6E0-F9A5-4ACD-B901-6D845E77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904BF-29AA-4F67-AE8B-8DE5C25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098FD-B5DC-4D90-9F6D-E820BBF4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52C5D-758C-4F95-82F3-EA282381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D607A-2785-4548-8C38-5A7E95A0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2A13A-31FF-49E2-B6C1-9CDC321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AD64F-7012-4509-B429-2243E041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2725-5BB7-4FF2-B335-BBADDA01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E4139-2575-47A0-A48D-B312BD12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81172-FB2D-4119-B106-824BF645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F50FCC-2E91-4B32-8077-C2A215A8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612A4-6D12-451D-B4EA-28C7AD26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06D82-5AD1-4EED-AE70-3E49660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24A04-F52E-4E30-BD10-157ECD6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B34F4-9D54-4600-A9F8-0BF3109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2E8EA-A299-4D0C-A2A1-53DD0DB7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2376F-01D8-4F3D-BE9F-E09BF5EA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BC70C-6EF0-4CE4-85B5-A0E0571A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9498-C2CC-4DAC-8A18-051EDEA3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1AC84-9D8B-45A0-AC90-4F57F4DF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FDB5B-0A43-4BF5-B6D0-86148A9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595B1-A1DD-440F-96B4-30DA6626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312AA2-D67E-4303-AA0A-CC1CDEEB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70BA1-7A27-4C4F-BE36-94F95F3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CE407-0D10-4535-8B91-96493AA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ED60C-73A3-4DFE-BD3E-F1A296D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22DCC-6F75-4652-8DA5-CF65E99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A7C4A-6D98-4286-A0BB-0EC72D58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5D091-D132-42D4-88D1-8E041FCB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38D6-2F0D-4627-8F19-23C2AF6E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FAB60-3773-4E14-9195-B3F2F752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4AE80-ACA5-44AA-A11F-EDE3F9EF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D5467-5E20-4278-BBFD-F0B11B7E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98410-CAA0-4B4C-936D-D8500362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06F02-1AD0-4C09-ACC5-61474C9A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9BB6A-91EA-4BBB-AD96-ECB7B7A0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3D34F-4DC3-48C8-A58B-5D186D23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75647-B535-4F63-9F66-7A85C82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35208-EFB7-419C-B8A2-8F2D04F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2CB22-86E7-4DBB-A8DF-7C64633F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D552-2F20-4831-B2B0-75D756F3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56AD49-92B8-460D-A5AD-0BAD7449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0A85C5-7422-4473-BC9E-7D313188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90E429-2DBC-41A9-B4F7-00E3FB6E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436F2-0B6D-4899-BBCF-8A49B5A2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9158D-A48A-4D8C-8F52-E329A98B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A051F-C9AA-494D-AE36-3D7B5FBF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CA01A-6500-46F3-AD20-7CF52300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E71A7-01CF-4312-A103-E109B40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883D3-1479-49D0-A964-07ACD361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49A7E-B2FF-48C9-B5E4-94506087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1ED-AB92-40EB-8C68-5245B72A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C348-031C-4355-91CC-31D990A5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F7BD4-03E6-4154-9AD3-5433F6C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3BF39-2E83-45F2-9BBF-53604985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46F05-77E8-4ED2-9270-BA2241E5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7764C-4D31-47A6-8477-BE07C14B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D5FA6-E944-4666-93C7-1F1C45A4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CEFCE-E3C9-4516-BAA3-514619D7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3519B-A93A-46C3-92F0-B698E54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D372C-844F-4470-B19A-87EF608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55EEB-5E9D-4C95-A99E-0A9699B4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CC00A4-D24B-42BF-8F98-41A581C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D27B-DE49-4DC7-86E7-020C4FC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561D0-F4EF-4319-A226-A1B71A77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120F8-B5EA-42F6-89A7-B2F7408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987621-511C-48D2-AB9E-B1145C7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1637B-B459-4049-98C0-4EE4787D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017D5-3FFD-4711-BDC8-7F685478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1B57D-4520-43CF-AAD5-6706A5BC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23AF7-DDB2-493B-BEBD-758A4332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BAA8D5-3A5F-4724-822F-0F19C2EB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B5F53A-2237-485D-9232-A55F5737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EED5AB-C4E9-47D2-A667-B6F1F58D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E804-284F-45E8-AECA-585E66C8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2F4B85-6825-4EDD-AD18-1C0C25C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CF6823-055A-4587-820E-2A77D7C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C27E55-8BE6-445D-81D4-7D347B38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E078A8-003E-46EF-B465-B1B86FB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2FE43A-8A48-4156-AC34-4820BA57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422A70-1EEC-4B54-AD96-43A0610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B4BA7B-5999-4CE5-80EA-E581843F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35A581-420D-4918-AC50-D82CF034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97EC1A-A927-484A-92FB-CC63A6AD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6FEDE2-B0BB-4C21-99F2-19375503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10A9-4D6F-4EA8-8474-2126D98C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11F0D-D581-4538-8F34-DD779E0F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E2322-4FB1-4B37-821B-7AD6DD35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CB342-BFAB-4203-8E72-5BD61954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5FF17-E08A-4E3A-B557-4182C8E8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B87A18-72F8-4CB2-B171-10B412AC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986D74-5943-43C1-A766-BC53068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7B11C-0185-4183-8BF7-8005E32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74BD9-284B-4B25-9128-419F8A9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F0E86-BD20-4416-A2A0-5EAE440F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4AB0C-7B08-4B64-B431-7CE3AD0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4511-5EA8-4AD9-9D94-39E68FFC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5ED0B-D205-4423-828C-8FE3A40F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CBA5F2-B011-40EA-971E-843506CF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DA4ADC8-F8AB-49DD-A613-95D2C7B2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8D966D-78DD-4F9A-AF0B-4623CB22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0A2440-961B-43A4-9832-E74A9208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35F21A-8F3D-47D1-9C0D-2C94F85F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179D08-9B89-4B57-92EA-4F81B49E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AF9D7EC-D3B6-4A00-ADEB-3A31FA2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8BF239-7A42-4F19-8178-DBCD0C7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7EA1F4-E5EE-4F56-974C-4F3A8E6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0769-2252-4BFF-9566-5A90800D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AF1B66-BBF5-4B8C-AF88-C8FADB8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694914C-769B-41BC-921A-1A5E16F4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65068C-D607-4703-967A-91438BE0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E0693D5-0CB1-43D3-86F0-8727326C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4C9C10D-C99D-4667-9021-8FAB5EDE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0DCFA7-5988-4D3C-8988-BC8D0E52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31480CC-EB98-4DAE-818F-D328EA8E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BC1ABF-F183-488D-8DA0-463D25B6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B705D6C-9B1E-4886-A4C8-3FD0E1AA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9615450-ACD5-4A27-84F0-B214F83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392E-3231-40E8-AEA9-1886372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2F1CAD-D1F4-4D69-AF1A-35FBA96C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CBDA3B-F69C-44C5-91DF-6871550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C0EC63-5854-4920-AAFF-884EED9D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2AC098-F271-4813-92F2-4C143794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1F1A907-929F-4DF0-B285-1CBD44F5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8D31BF0-9B82-4CC5-A537-65A8A0B1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B869D7-D306-497C-AF8E-ABC4AD6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0ACF337-88FC-4C64-9F73-3DB7DD0E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E5D1D9-E44B-4B21-AD8C-28D0D914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67FDD2F-4CB6-45BF-9F4C-EEB47F3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7DF0-7322-4955-A196-FF2BDD6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9C6EF5-73F3-4F6C-A787-E5FDA03D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5FB4C2-BC17-4618-B046-B8D931B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DE4A60-DD5F-490B-86F6-AD387AE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F4DF2D-040B-42D5-92F2-43B7F29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E06875-174C-4E7B-9423-E2145826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3ADDE2-499F-4AE7-A74C-1B025EA9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44FFD13-4027-4F68-A4E1-21821A8E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44007C-107A-438D-A717-52289EE8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6B922F-35D6-4D4B-9195-07A58E4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A0B406-5006-4F74-8F85-2124B1BC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769C-8E62-4068-851A-87934700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FEB70-23BB-46E4-85CB-CAF681C0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7B5F7A-AFE8-455B-8DCC-73F2503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0A8BB7-5D46-42B3-AD06-0008AC9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88EBCA-A666-44C6-9734-D7BEC1B8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178334-DAD6-46F0-9464-8D6CDBF9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74510B-F983-46B5-A106-1F9A22F1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345BFE-A2C7-4E5A-82C9-EB039EB2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2C0FEF-7560-4BCC-9181-E4DF462C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DF77CE-56F4-4665-AC65-57A0F7EA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9CA2FF-1212-47A0-97E0-A30E4DA0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73FB-A09A-40F9-88BA-C3D0B27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1F8E33-6AAD-4E6B-86B6-89A1E366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9C169A-5471-45B4-A0D8-D3B50162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7D94AA-32AB-4D0D-9E86-A88B3D4E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C596CA-1B10-4407-A53E-FF91CD94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1A8C39-C422-4362-B3D3-6225E05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3700BF-E0B5-4CA2-8DFF-0D9F2D4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AE28D-BACF-4988-B8E4-DA35002A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AC113C-4424-4EFD-A78A-3B3A262C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8AA8E1-E6A5-482B-A752-1878A4A0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161C7D-EA5C-4C8F-8D0C-CA0025A7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909-A56E-483A-85A8-DAD42550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5305-5B35-4655-AB7D-DAAAA53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664729-C94F-45BA-8657-1DB17F0D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9E72C7-1BA8-4A1A-8132-FE3B666E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C88700-32D3-4CEB-A3D7-EEB61B21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89AC82-8332-4F68-86F6-7E1A7518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123DF2-4FA1-4674-83C9-9C95050B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9878B5-248E-494B-8226-B75D8239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EFA97E-A89F-4510-B720-60EF9DE1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805B37-CCBF-4FB0-BF25-86EBB1E5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7D062B-13CF-4DFD-95D1-89147DA2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F9C591-7107-4209-93E8-8806900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AD2E-96BD-41D3-8143-0DF21DBE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C4D5DD-2A99-4E4C-BEFF-35C8C594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C9EBBA-084F-4B6C-B997-7E781F1D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70BBA4-535A-40FC-9A32-FCC68777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BDB2FE-3F8E-49D7-8BC0-72A72FC3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F6AD42-0809-4676-869C-FD766E4E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D2B297-F8F5-469E-BEA1-38F0B20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8E5205-919D-43A1-A0C8-823C80DD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123001-F659-49FD-8D2C-75A1AF77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13815E-E30B-4C47-8934-71748150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7DF20F-3CE7-4069-937A-72C2F6D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A4EB-7370-4BB3-B702-A023F71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1437F7-8AED-4CF3-A9E5-AB4DDAD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DCC66F-C8D6-490D-88D0-0695EAB2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DC7302-7906-4B4B-BD6F-3E3D68A7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C1B379-32AE-48FA-B0F8-790AB524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1B3BAB-80E8-4DEF-BD78-7AB7F241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DB0E-6524-4D04-A4D5-98BE08E5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7CB9-FDF6-4056-A292-3EF8A60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00EC-4F01-4944-9551-D2FE86F0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B79C1-0334-4111-9862-8BE100B6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DE5E-575F-44DE-A39D-DC17535D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FBC8-05E4-4B30-B90D-52D7EAE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0BB7-AC58-4FEC-8EC4-45C5313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6E7-E5FD-43C9-B5B5-0E6AEE5F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F86F-2DF3-4F9D-86D1-23473F15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CEAE-7B52-4A0E-8190-7BDA868A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43B1-DEA0-4C65-9B3B-FCB48948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5BE0-BDE8-42B2-83D8-489ED825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254DA-30DA-4F68-8086-4E94F1E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5A6A-A91B-408D-8E72-89149606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CDA5A-7494-4F2C-861C-E6D7CC10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CB090-6CA7-4628-9421-6B68B6F2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DF7E-5D72-4CC6-9385-97150071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97FD8-3C44-421B-B5A1-D0D63E71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462-4456-4F23-87F5-299F3EB2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9367-771D-47E7-BD8F-A27C1451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E931D-423B-431D-ABAE-CE589F0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5A535-70D9-4A8E-82FE-7FEE4007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D1D3-1AF3-4716-8D73-B3F9C765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E1C5-8935-4C1F-8A14-840C6C2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19854-0233-4E87-AE46-617E1EE1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2996-2223-447B-AB2F-68CC800D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BAD88-2A2D-4C51-BB3B-9BB3B425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97820-19C1-4B94-A516-8CA264C5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C105-C0D8-4AFE-9989-3FE17DF5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FFB-8338-4088-8615-FE161A5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F09F-9126-46B5-A38B-DAC67BE4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C5E6D-53E7-46C0-9D6D-3D5AE1B3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8C1F4-3055-4D5E-B876-37DDA82C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46FF-25BB-442E-968E-F722071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3E92C-DA33-41C8-A451-EE67485D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9C81-B7CB-484B-BD80-6F2AD184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89D5-7A50-4C14-B137-883BD76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D0AE-8D49-4938-AC46-4C32875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1F89-8CCF-4771-9363-77CEA65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E5C7-D833-4111-A510-0104756B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5CB-46CE-4337-A33A-A88FEA1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1BF86-2C27-4728-B813-0F15A2B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C804-AC8F-47DD-81EA-6DAE5B95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826CA-1D45-4ABF-BF19-B25CED8A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71A65-4EFA-4931-820B-9942C1E0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7352C-5FE4-4EE2-B991-4E581EF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88DBD-1915-4F48-8331-E6BAAC3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A5CE3-A717-4EF5-AEC7-703F716E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96D3E9-344E-4413-BF34-786707C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299F4-A484-4483-BFAD-83DD99E2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2019C-D0B7-46E9-B3C5-B79748C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E0F-5D5E-4E69-A1F9-A1136180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2336E-82C2-44EA-84E9-FF86DA62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4567D-93F5-4D54-9EF7-0B61903D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6A78A-0B55-4C71-B305-35B41AB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F394A-569B-4E84-AF9C-E5F0770F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D6893-F089-48A9-8B8A-D3D7A712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14BC8-8D8E-4527-92AB-E98A5893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C8E88-8BCC-4DCD-A997-5E6E727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4B39-FCFB-4075-9D39-BF4E9F6A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6EE38-4F1D-43B7-8E9D-EA30DB36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9D19-2C23-4F68-82EE-26081222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7E1-9170-40CF-93BE-A9FE531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4D5D-2C06-4078-85BE-EFC6E4D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976DC-32D9-4D54-91E5-F17F01C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CFA45-5FE6-4875-83EA-A4A8456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9DB73-CA63-44EB-A50B-1C6C519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C66F-3017-4621-AA7F-608D8F02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F8040-B642-4E11-80E3-C7474F91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34181-F970-4D84-BCF2-302D2043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1ECB7-BD13-4B79-8836-56C7D5C4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0C9B4-ADDC-47A5-BB2E-F84C1253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C7B07-1147-492F-B79E-B78A43D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A4E-88C1-40F9-BF3C-0635EB2E756F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62F-F326-4939-91F1-87F635600738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83CE-7BB9-4474-97FA-83FB84615F1E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2BFE-2029-4AA8-88A2-7987077692EF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CE7C-6ED7-477C-934E-2F7E2F86E6FA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F580-73AB-4852-B2CE-F77B1695077A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CD2-6D8E-41F3-959C-EF33F437F5D0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70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E4C8-EA7A-43AE-B40D-CA945BD31E89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7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ACF-AD82-4624-B848-B43A651D492E}" type="slidenum">
              <a:rPr b="0" lang="en-A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5B3-C31B-455D-8BA2-3459DB74BA3E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sldNum" idx="5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E05-07D8-4159-B4CB-7AF9CA89A37F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ftr" idx="5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A1D-7523-465E-9250-1CF541CBF8FC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51F9-608B-4999-8576-C4E762F37AA2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sldNum" idx="6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DCF1-DD4B-4E14-B59B-05D1476374AC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dt" idx="6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B2C-DA0B-494D-BBE7-975F248F9EBE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ftr" idx="6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6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sldNum" idx="6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0F3-DA34-462A-908C-7F1F718C5BDF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ftr" idx="6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1058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06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0CC-97D5-4691-AF83-6D63E1B86136}" type="slidenum">
              <a:rPr b="0" lang="en-A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10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3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4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5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8E6-9CA4-431A-A9D8-22F09CB985A1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7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7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7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7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BFA-80BD-4DEF-988A-6D6C1F86FCEA}" type="slidenum">
              <a:rPr b="0" lang="en-A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1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5FA8-740D-48CA-A128-1AE48F9A440F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6137-03D6-4645-8F88-C665EA2E1487}" type="slidenum">
              <a:rPr b="0" lang="en-A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799-B01C-45E4-88BE-06AA387E526B}" type="slidenum">
              <a:rPr b="0" lang="en-A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9928-5441-4479-8310-F0C68350EEB0}" type="slidenum">
              <a:rPr b="0" lang="en-A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7710-98D1-4025-8027-AC281F8A3C10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9E97-1A75-4B16-A8F1-632B702B7DCC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B8E8-8346-42F9-8713-FC0BD6C9962A}" type="slidenum"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A236-218E-45B8-98CC-5147131EA301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rebuchet MS"/>
              </a:rPr>
              <a:t>PROMOTING PHYSICAL ACTIVIT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234" name="Picture 2" descr="CAYIMOAG.jpe"/>
          <p:cNvPicPr/>
          <p:nvPr/>
        </p:nvPicPr>
        <p:blipFill>
          <a:blip r:embed="rId1"/>
          <a:stretch/>
        </p:blipFill>
        <p:spPr>
          <a:xfrm>
            <a:off x="3357720" y="421488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3" descr="Hockey_2.gif"/>
          <p:cNvPicPr/>
          <p:nvPr/>
        </p:nvPicPr>
        <p:blipFill>
          <a:blip r:embed="rId2"/>
          <a:stretch/>
        </p:blipFill>
        <p:spPr>
          <a:xfrm>
            <a:off x="1143000" y="450072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4" descr="Baseball_woman.gif"/>
          <p:cNvPicPr/>
          <p:nvPr/>
        </p:nvPicPr>
        <p:blipFill>
          <a:blip r:embed="rId3"/>
          <a:stretch/>
        </p:blipFill>
        <p:spPr>
          <a:xfrm>
            <a:off x="6643800" y="4286160"/>
            <a:ext cx="971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64653"/>
                </a:solidFill>
                <a:latin typeface="Bookman Old Style"/>
              </a:rPr>
              <a:t>The health benefits of physical activ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Why do you participate in physical activit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ist 5 physical benefits for YOU in participating in physical activ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ist 5 social benefits for YOU in participating in physical activ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List 5 emotional benefits for YOU in participating in physical activit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39" name="Picture 3" descr="Yoga.gif"/>
          <p:cNvPicPr/>
          <p:nvPr/>
        </p:nvPicPr>
        <p:blipFill>
          <a:blip r:embed="rId1"/>
          <a:stretch/>
        </p:blipFill>
        <p:spPr>
          <a:xfrm>
            <a:off x="3571920" y="4357800"/>
            <a:ext cx="3203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64653"/>
                </a:solidFill>
                <a:latin typeface="Bookman Old Style"/>
              </a:rPr>
              <a:t>The health benefits of physical activit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Physical activity is not everything!  It is only one part of a healthy lifestyle made up of a healthy diet, high self-esteem, resilience, health weight and not smoking.  Socio-economic factors such as income, education, transport and culture also have an impact upon an individu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42" name="Picture 3" descr="Tennis-02.gif"/>
          <p:cNvPicPr/>
          <p:nvPr/>
        </p:nvPicPr>
        <p:blipFill>
          <a:blip r:embed="rId1"/>
          <a:stretch/>
        </p:blipFill>
        <p:spPr>
          <a:xfrm>
            <a:off x="3143160" y="373860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hysical inactiv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Physical inactivity is linked to many health related condi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is the definition of obesit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List 5 of some of the main health problems linked to obes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at is the difference between types 1 and 2 diabetes?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Why is diabetes considered to be a lifestyle diseas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Considering social, cathartic and ascetic experiences, how can physical activity benefit depression, anxiety and social isolatio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How can physical activity benefit those suffering from hypertension, cardiovascular disease and high cholestero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5" name="Picture 3" descr="football_player_running_toss_ball_md_clr.gif"/>
          <p:cNvPicPr/>
          <p:nvPr/>
        </p:nvPicPr>
        <p:blipFill>
          <a:blip r:embed="rId1"/>
          <a:stretch/>
        </p:blipFill>
        <p:spPr>
          <a:xfrm>
            <a:off x="6143760" y="281160"/>
            <a:ext cx="126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can physical activity benefit older adults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What are the financial costs of making our lifestyle easier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much exercise should Australians be participating in to achieve appropriate levels of wellbeing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7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3" descr="Golf-01.gif"/>
          <p:cNvPicPr/>
          <p:nvPr/>
        </p:nvPicPr>
        <p:blipFill>
          <a:blip r:embed="rId2"/>
          <a:stretch/>
        </p:blipFill>
        <p:spPr>
          <a:xfrm>
            <a:off x="3571920" y="4143240"/>
            <a:ext cx="27241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do individual reasons change through their lifespa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How can gender affect participation in physical activit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Why would snow skiing and sailing be limiting sports in regard to participation in physical activity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List 5 beneficial affects of multicultural Australia in regard to participation in physical activ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0" name="Title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3" descr="tn_dancergal.gif"/>
          <p:cNvPicPr/>
          <p:nvPr/>
        </p:nvPicPr>
        <p:blipFill>
          <a:blip r:embed="rId2"/>
          <a:stretch/>
        </p:blipFill>
        <p:spPr>
          <a:xfrm>
            <a:off x="4071960" y="507204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Social reas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Par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Schools/workplac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Pee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The med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efac9"/>
                </a:solidFill>
                <a:latin typeface="Constantia"/>
              </a:rPr>
              <a:t>Physical/environmental reas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253" name="Title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3" descr="swiming.gif"/>
          <p:cNvPicPr/>
          <p:nvPr/>
        </p:nvPicPr>
        <p:blipFill>
          <a:blip r:embed="rId2"/>
          <a:stretch/>
        </p:blipFill>
        <p:spPr>
          <a:xfrm>
            <a:off x="5286240" y="1714680"/>
            <a:ext cx="2689200" cy="121896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4" descr="Dancer-01.gif"/>
          <p:cNvPicPr/>
          <p:nvPr/>
        </p:nvPicPr>
        <p:blipFill>
          <a:blip r:embed="rId3"/>
          <a:stretch/>
        </p:blipFill>
        <p:spPr>
          <a:xfrm>
            <a:off x="2786040" y="4071960"/>
            <a:ext cx="24541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Stages of change theory as a model of behaviour helping us to understand why we participate in physical acti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Interview your parents utilising the stages of change theory (pages 264 – 265).  Ask about their experiences of these stag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7" name="Title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" descr="Floating.gif"/>
          <p:cNvPicPr/>
          <p:nvPr/>
        </p:nvPicPr>
        <p:blipFill>
          <a:blip r:embed="rId2"/>
          <a:stretch/>
        </p:blipFill>
        <p:spPr>
          <a:xfrm>
            <a:off x="3714840" y="4714920"/>
            <a:ext cx="28303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Consider the 21 tips for getting more action into your day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During your parent interview suggest some of these tips as possibilities for increasing their involvement in physical activity.  Which ones would suit them most?   Wh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rebuchet MS"/>
              </a:rPr>
              <a:t>List 5 pieces of advice that you would give a person who is beginning to start a program of walking each day?  Explain this advic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61" name="Picture 3" descr="four.gif"/>
          <p:cNvPicPr/>
          <p:nvPr/>
        </p:nvPicPr>
        <p:blipFill>
          <a:blip r:embed="rId2"/>
          <a:stretch/>
        </p:blipFill>
        <p:spPr>
          <a:xfrm>
            <a:off x="6715080" y="5214960"/>
            <a:ext cx="11336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5:53:33Z</dcterms:created>
  <dc:creator>Lyn Clarkson</dc:creator>
  <dc:description/>
  <dc:language>en-US</dc:language>
  <cp:lastModifiedBy>Lyn Clarkson</cp:lastModifiedBy>
  <dcterms:modified xsi:type="dcterms:W3CDTF">2007-12-10T01:07:24Z</dcterms:modified>
  <cp:revision>14</cp:revision>
  <dc:subject/>
  <dc:title>PROMOTING PHYSICAL ACTIVITY</dc:title>
</cp:coreProperties>
</file>